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9E7D-4837-48A7-B445-BA31DA47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EF52-2DFC-4E00-B391-D417E55E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FBD2-8610-46EF-8042-164B39D0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B7C-C6A9-4654-AEE7-C3624CC19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07C8-0C95-481C-8BBB-76DC0C7A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68B9-40C3-4A9F-9F92-5F9089BB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B212-6455-4BB0-AEAA-A7CDB73E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DB36-9D48-4649-A61D-F6AE2F4F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5287-776C-4727-9DDD-01FD4533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642C-D622-42E7-8185-3CD1C8B3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CDA3-09D6-447C-A21F-54F60958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6CBE-1C9D-487F-97B9-816AC45E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B3EF6-7A3C-42F7-9EC1-62AC82B66DF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4400" y="457200"/>
            <a:ext cx="172440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-Power Me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1025640"/>
            <a:ext cx="1752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5960" y="1600200"/>
            <a:ext cx="176076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CH-P-M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388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70080" y="4140360"/>
            <a:ext cx="224460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4952880"/>
            <a:ext cx="190476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84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5840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1680" y="457200"/>
            <a:ext cx="175824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ro-Span M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102564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720720"/>
            <a:ext cx="175248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89680" y="2209680"/>
            <a:ext cx="2004840" cy="337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Zero-Span-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72200" y="2971800"/>
            <a:ext cx="172260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Ref.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41960" y="3565440"/>
            <a:ext cx="17528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up SG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2600" y="4140360"/>
            <a:ext cx="2316240" cy="61164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.Zero-Span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et AVG on or of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5880" y="4952880"/>
            <a:ext cx="1905120" cy="457200"/>
          </a:xfrm>
          <a:prstGeom prst="diamond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41960" y="5638680"/>
            <a:ext cx="1752840" cy="33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57920" y="6207120"/>
            <a:ext cx="541800" cy="33732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2360" y="502920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d Step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371600"/>
            <a:ext cx="1752480" cy="5806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s.CH-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e 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25909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5486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648320" y="25905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41911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91840" y="3809880"/>
            <a:ext cx="97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.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9526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2562120"/>
            <a:ext cx="0" cy="4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3314880"/>
            <a:ext cx="0" cy="26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924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9076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39076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066320" y="5181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06668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27432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049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868720" y="5211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181480" y="800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81480" y="1371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1600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324480" y="45684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4572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43800" y="4572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066680"/>
            <a:ext cx="0" cy="29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15200" y="1962000"/>
            <a:ext cx="0" cy="247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255276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10280" y="3324240"/>
            <a:ext cx="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10280" y="39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39080" y="476244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4844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90760" y="4772160"/>
            <a:ext cx="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039080" y="5981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562360" y="5181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562720" y="274284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27432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0720" y="2666880"/>
            <a:ext cx="8863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24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56d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dB ste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97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69240" y="35812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(D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480" y="4680"/>
            <a:ext cx="360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oftware Flow Chart of Power 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73840" y="11160"/>
            <a:ext cx="31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ample Software : ADVAN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06:55:12Z</dcterms:created>
  <dc:creator>hirakoso</dc:creator>
  <dc:description/>
  <dc:language>en-US</dc:language>
  <cp:lastModifiedBy>hirakoso</cp:lastModifiedBy>
  <dcterms:modified xsi:type="dcterms:W3CDTF">2005-12-07T01:09:24Z</dcterms:modified>
  <cp:revision>16</cp:revision>
  <dc:subject/>
  <dc:title>PowerPoint プレゼンテーション</dc:title>
</cp:coreProperties>
</file>