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DCA12-98C0-4BEA-989F-8ECFA0715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282EA-875E-4A0C-ADD1-584D9408B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A5F3B-A581-42D7-997D-ADE5B0B0C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91441-ED01-4A9B-A1B6-ED25845C1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BC99D-B358-4E92-915F-3E76F83F7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8ED0E-2D94-4B84-B0DA-114D78EC2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32A1F-49FE-442E-80E6-C59D72D0A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DBA7A-2D9F-47A2-88C1-6448AAF99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789C8-9F4E-4F41-98E9-CC43EC76F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B603E-93B8-4DAB-8AFF-F89CC99C2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79637-4525-4E96-ACA4-884999099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1A36A-BCF5-4101-8875-9D1EB91AA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2B71A-5BE2-4B7F-87BB-80DFDF48099F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44400" y="457200"/>
            <a:ext cx="1724400" cy="3373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-Power Mea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523880" y="1025640"/>
            <a:ext cx="1752840" cy="337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itial Set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515960" y="1600200"/>
            <a:ext cx="1760760" cy="337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tup S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71600" y="2209680"/>
            <a:ext cx="2004840" cy="337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tup CH-P-M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554120" y="2971800"/>
            <a:ext cx="1722600" cy="3373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tup Ref.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23880" y="3565440"/>
            <a:ext cx="1752840" cy="3373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tup SG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270080" y="4140360"/>
            <a:ext cx="2244600" cy="611640"/>
          </a:xfrm>
          <a:prstGeom prst="rect">
            <a:avLst/>
          </a:prstGeom>
          <a:solidFill>
            <a:srgbClr val="99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as.CH-Pow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Set AVG on or off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447920" y="4952880"/>
            <a:ext cx="1904760" cy="457200"/>
          </a:xfrm>
          <a:prstGeom prst="diamond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523880" y="5638680"/>
            <a:ext cx="1752840" cy="33732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rite Grap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840" y="6207120"/>
            <a:ext cx="541800" cy="33732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958400" y="5029200"/>
            <a:ext cx="101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d Step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351680" y="457200"/>
            <a:ext cx="1758240" cy="3373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Zero-Span Mo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43400" y="1025640"/>
            <a:ext cx="1752480" cy="337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itial Set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705720" y="720720"/>
            <a:ext cx="1752480" cy="337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tup S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989680" y="2209680"/>
            <a:ext cx="2004840" cy="337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tup Zero-Span-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172200" y="2971800"/>
            <a:ext cx="1722600" cy="3373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tup Ref.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141960" y="3565440"/>
            <a:ext cx="1752840" cy="3373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tup SG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862600" y="4140360"/>
            <a:ext cx="2316240" cy="611640"/>
          </a:xfrm>
          <a:prstGeom prst="rect">
            <a:avLst/>
          </a:prstGeom>
          <a:solidFill>
            <a:srgbClr val="99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as.Zero-Span.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Set AVG on or off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095880" y="4952880"/>
            <a:ext cx="1905120" cy="457200"/>
          </a:xfrm>
          <a:prstGeom prst="diamond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141960" y="5638680"/>
            <a:ext cx="1752840" cy="33732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rite Grap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757920" y="6207120"/>
            <a:ext cx="541800" cy="33732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552360" y="5029200"/>
            <a:ext cx="101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d Step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371600"/>
            <a:ext cx="1752480" cy="580680"/>
          </a:xfrm>
          <a:prstGeom prst="rect">
            <a:avLst/>
          </a:prstGeom>
          <a:solidFill>
            <a:srgbClr val="99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as.CH-Pow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One tim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267080" y="259092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343400" y="54864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648320" y="25905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648320" y="419112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191840" y="3809880"/>
            <a:ext cx="97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s.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362320" y="8002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362320" y="1371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362320" y="19526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362320" y="2562120"/>
            <a:ext cx="0" cy="409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362320" y="3314880"/>
            <a:ext cx="0" cy="266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362320" y="39243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9076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390760" y="59817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1066320" y="5181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1066680" y="274284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066680" y="274320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204920" y="521172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868720" y="521172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181480" y="8002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181480" y="1371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181480" y="16002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6324480" y="45684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324480" y="4572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543800" y="4572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543800" y="1066680"/>
            <a:ext cx="0" cy="295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315200" y="1962000"/>
            <a:ext cx="0" cy="247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010280" y="2552760"/>
            <a:ext cx="0" cy="419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010280" y="3324240"/>
            <a:ext cx="0" cy="25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010280" y="39146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039080" y="4762440"/>
            <a:ext cx="0" cy="190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04844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390760" y="4772160"/>
            <a:ext cx="0" cy="18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039080" y="59817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5562360" y="51814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5562720" y="274284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562720" y="274320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80720" y="2666880"/>
            <a:ext cx="88632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P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x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24dB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56dB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dB step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97240" y="35812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</a:rPr>
              <a:t>(DU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869240" y="35812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</a:rPr>
              <a:t>(DU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5480" y="4680"/>
            <a:ext cx="3606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Software Flow Chart of Power Mon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973840" y="11160"/>
            <a:ext cx="311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Sample Software : ADVANT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6T06:55:12Z</dcterms:created>
  <dc:creator>hirakoso</dc:creator>
  <dc:description/>
  <dc:language>en-US</dc:language>
  <cp:lastModifiedBy>hirakoso</cp:lastModifiedBy>
  <dcterms:modified xsi:type="dcterms:W3CDTF">2005-12-07T01:09:24Z</dcterms:modified>
  <cp:revision>16</cp:revision>
  <dc:subject/>
  <dc:title>PowerPoint プレゼンテーション</dc:title>
</cp:coreProperties>
</file>