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303E-5BD6-4478-A17B-5340DDD5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E33-9A4B-4399-ABEE-BC31C1AB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5EC-652E-4E9A-80F6-4A85F223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B74-A14D-4946-B286-4E9B9EA8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772-B971-43C5-99E3-1C6C89C2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633B-5047-4BE2-9FA1-372BD536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0E6-7EE6-4B3F-8B8B-F30069B2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F57-0F33-409B-AA15-AE7768E3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FD6-7236-4C4B-9B24-50C4174E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BBA-3D96-47C9-B422-7101EB12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9FB-67C1-4B5F-B6DA-096B2349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137-52F3-4837-BF50-55EA9530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E785-7F46-4143-927E-DE37FD734AF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4400" y="457200"/>
            <a:ext cx="172440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-Power Me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025640"/>
            <a:ext cx="1752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5960" y="1600200"/>
            <a:ext cx="17607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CH-P-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70080" y="4140360"/>
            <a:ext cx="224460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4952880"/>
            <a:ext cx="190476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84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840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1680" y="457200"/>
            <a:ext cx="175824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ro-Span M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02564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72072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8968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Zero-Span-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4196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2600" y="4140360"/>
            <a:ext cx="231624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Zero-Span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952880"/>
            <a:ext cx="190512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4196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5792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236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371600"/>
            <a:ext cx="1752480" cy="5806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e 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648320" y="25905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4191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840" y="38098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.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9526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562120"/>
            <a:ext cx="0" cy="4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3148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924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9076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9076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06632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06668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049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87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600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324480" y="456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57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457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06668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196200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5527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332424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9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39080" y="4762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4844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90760" y="477216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3908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56236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56272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743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0720" y="2666880"/>
            <a:ext cx="8863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4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6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dB st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97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69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480" y="4680"/>
            <a:ext cx="36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oftware Flow Chart of Power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73840" y="11160"/>
            <a:ext cx="31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ample Software : ADVAN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6:55:12Z</dcterms:created>
  <dc:creator>hirakoso</dc:creator>
  <dc:description/>
  <dc:language>en-US</dc:language>
  <cp:lastModifiedBy>hirakoso</cp:lastModifiedBy>
  <dcterms:modified xsi:type="dcterms:W3CDTF">2005-12-07T01:09:24Z</dcterms:modified>
  <cp:revision>16</cp:revision>
  <dc:subject/>
  <dc:title>PowerPoint プレゼンテーション</dc:title>
</cp:coreProperties>
</file>