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77B-0DB0-4926-B4D4-B72D52C7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07F-F5DE-4B1C-9D8D-DCC15875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223-5210-422B-B1CF-FE71E9BB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C71-C95D-425F-A38F-C16A64E9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ED2-CF41-41D3-BCA9-52FC7C51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57C-ECB6-401D-9BBB-E79FD1FE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4D0-7D39-43C2-9834-C84D6459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C71-17C4-46D5-8826-9B6AE699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74B-0C51-43BA-A166-34879438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C5E-A8AB-4E0C-AD8C-32E88291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A3DC-22C1-4999-BF48-ED9572B0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343-887E-479C-8CA1-D150B9BB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B735-1E90-44F9-A682-E6DCF86AF0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4400" y="457200"/>
            <a:ext cx="172440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-Power Me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025640"/>
            <a:ext cx="1752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5960" y="1600200"/>
            <a:ext cx="17607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CH-P-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0080" y="4140360"/>
            <a:ext cx="224460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4952880"/>
            <a:ext cx="190476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84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840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1680" y="457200"/>
            <a:ext cx="175824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-Span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02564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72072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8968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Zero-Span-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4196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2600" y="4140360"/>
            <a:ext cx="231624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Zero-Span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90512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4196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5792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236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371600"/>
            <a:ext cx="1752480" cy="5806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e 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48320" y="25905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840" y="38098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.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9526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56212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3148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924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9076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9076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06632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06668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049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87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60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24480" y="456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57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457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0666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196200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5527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33242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9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9080" y="4762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4844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90760" y="477216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3908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56236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56272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743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0720" y="2666880"/>
            <a:ext cx="886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4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6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dB st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7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69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480" y="4680"/>
            <a:ext cx="36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ftware Flow Chart of Power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73840" y="11160"/>
            <a:ext cx="31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ample Software : ADVAN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6:55:12Z</dcterms:created>
  <dc:creator>hirakoso</dc:creator>
  <dc:description/>
  <dc:language>en-US</dc:language>
  <cp:lastModifiedBy>hirakoso</cp:lastModifiedBy>
  <dcterms:modified xsi:type="dcterms:W3CDTF">2005-12-07T01:09:24Z</dcterms:modified>
  <cp:revision>16</cp:revision>
  <dc:subject/>
  <dc:title>PowerPoint プレゼンテーション</dc:title>
</cp:coreProperties>
</file>