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1C93-9CD1-4B2D-BC95-CD96BFE3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7D03-D2FA-4E72-B87B-88EEAC81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FCC2-5884-4BA7-98EE-EA646003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7E8A-E2C1-405E-9260-104872C4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6268-E880-4AA7-882C-56EB48B5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3625-CBF9-4042-86A5-E7FF762D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86FE-895B-4E88-BA56-F4DB6421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5D29-742C-4470-9BA6-B99FC104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8A1A-42DA-430F-A63E-C670AE50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893-7434-4E51-9353-E727D420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CAD1-D4BC-47D2-94A3-29B9378C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64A-9A81-45EC-804F-7D8D2F99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EFC5-180B-40B5-934F-9D7C2572C0D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4400" y="457200"/>
            <a:ext cx="172440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-Power Me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1025640"/>
            <a:ext cx="1752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5960" y="1600200"/>
            <a:ext cx="176076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2209680"/>
            <a:ext cx="2004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CH-P-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2971800"/>
            <a:ext cx="172260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Ref.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3565440"/>
            <a:ext cx="17528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70080" y="4140360"/>
            <a:ext cx="2244600" cy="61164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.CH-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AVG on or 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4952880"/>
            <a:ext cx="1904760" cy="457200"/>
          </a:xfrm>
          <a:prstGeom prst="diamond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5638680"/>
            <a:ext cx="1752840" cy="337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840" y="6207120"/>
            <a:ext cx="541800" cy="337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58400" y="50292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Step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51680" y="457200"/>
            <a:ext cx="175824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ero-Span M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1025640"/>
            <a:ext cx="17524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720720"/>
            <a:ext cx="17524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89680" y="2209680"/>
            <a:ext cx="2004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Zero-Span-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2971800"/>
            <a:ext cx="172260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Ref.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41960" y="3565440"/>
            <a:ext cx="17528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2600" y="4140360"/>
            <a:ext cx="2316240" cy="61164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.Zero-Span.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AVG on or 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4952880"/>
            <a:ext cx="1905120" cy="457200"/>
          </a:xfrm>
          <a:prstGeom prst="diamond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41960" y="5638680"/>
            <a:ext cx="1752840" cy="337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57920" y="6207120"/>
            <a:ext cx="541800" cy="337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2360" y="50292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Step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371600"/>
            <a:ext cx="1752480" cy="58068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.CH-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e 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2590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5486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648320" y="25905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4191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840" y="380988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.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800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9526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2562120"/>
            <a:ext cx="0" cy="4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3314880"/>
            <a:ext cx="0" cy="26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3924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9076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90760" y="5981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066320" y="5181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066680" y="27428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27432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04920" y="5211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8720" y="5211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800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600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324480" y="456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457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43800" y="4572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1066680"/>
            <a:ext cx="0" cy="29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196200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255276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3324240"/>
            <a:ext cx="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39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39080" y="4762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4844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90760" y="477216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39080" y="5981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562360" y="5181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562720" y="27428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27432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0720" y="2666880"/>
            <a:ext cx="8863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4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6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dB ste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97240" y="35812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(D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69240" y="35812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(D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480" y="4680"/>
            <a:ext cx="36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oftware Flow Chart of Power 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73840" y="11160"/>
            <a:ext cx="31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ample Software : ADVAN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6:55:12Z</dcterms:created>
  <dc:creator>hirakoso</dc:creator>
  <dc:description/>
  <dc:language>en-US</dc:language>
  <cp:lastModifiedBy>hirakoso</cp:lastModifiedBy>
  <dcterms:modified xsi:type="dcterms:W3CDTF">2005-12-07T01:09:24Z</dcterms:modified>
  <cp:revision>16</cp:revision>
  <dc:subject/>
  <dc:title>PowerPoint プレゼンテーション</dc:title>
</cp:coreProperties>
</file>