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6C9E-C9BB-47FD-A7C0-8F1AFE4D27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3A723-C616-4E08-B928-D19BA2DC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D3F2-0731-4114-8647-891CCB478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1897-8990-4A95-A247-1CE3AD06BF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D6CBB-68E4-4420-9187-4E49587C0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82C9B-3B57-4BDE-9406-328C7F583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D2FA1-3755-464C-A928-BC7B35E33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6B336-D6FE-4A97-81CA-2D659405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AC13-C00D-4159-969E-6DC068DC4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E93C9-ACEB-4E88-9BC2-E450815E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21EC-2163-45A6-AC99-63B2032C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06340-553A-4C98-AABC-C846CF2FC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3A79-FDDB-4AC5-97D5-1B59F0F1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DB8D8-9B36-4930-B1ED-D304E887D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8FF39-62E1-461E-BDD5-E2DC21AE1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D4DC-207A-4B3C-8116-E477AB6F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C15B3-8DEC-4CEA-8719-AE5D8128C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9E44E-B3B5-4001-8EB3-F71029C4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28EBC-B440-4C90-8D67-8AD50543E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F2DCB-0174-4485-9566-862E0BB48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65A7-A25F-477B-B38A-CC8892DBD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FD84-0127-45AF-962C-60B9998D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9F49B-0541-4EAF-926C-8117B95E1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52A2-A213-4096-8BB4-F5275F92C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3DE2B-BCB3-4AF7-AFAB-048ED4C02318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7F319-9046-4DDE-A0C4-CB4D39408D25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17863-067B-4CD4-A11D-01525A66241D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5EE50-9A16-43C1-BFE5-7C62C9756799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U3800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時間軸解析で高速パワー測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49280" y="825480"/>
            <a:ext cx="511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概要：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時間軸解析（デジタイザ）を用いて、パワー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機能を外部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て実現するサンプルソフトウェア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これにより標準スペアナモードで測定した場合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　　　 比較し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7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8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倍の高速測定が期待でき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22320" y="2714760"/>
            <a:ext cx="5892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項目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Telec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高度化小電力データ通信システムの測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項目を参照にしてます。（スプリアス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VM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なし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LAN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CP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。特小で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不要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797120" y="4237200"/>
            <a:ext cx="6050880" cy="23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測定方法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送信周波数とパワー測定の帯域幅を指定し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他の測定は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PAN(CB)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MHz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測定しています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信号は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を例にしています。その他の規格でパルス幅が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1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以下の場合は、ソフトウェアの変更が必要になる場合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＊測定範囲は特小から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WLAN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まで対応可能。サンプルソフトは実行形式だけですが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　　　ユーザ登録によりソースファイル</a:t>
            </a:r>
            <a:r>
              <a:rPr b="0" lang="en-US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(VB6)</a:t>
            </a:r>
            <a:r>
              <a:rPr b="0" lang="ja-JP" sz="1600" spc="-1" strike="noStrike">
                <a:solidFill>
                  <a:srgbClr val="009999"/>
                </a:solidFill>
                <a:latin typeface="Tahoma"/>
                <a:ea typeface="ＭＳ Ｐゴシック"/>
              </a:rPr>
              <a:t>の提供サービスがあります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5360" y="75708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011.12.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09ED2-A60A-46E6-81A0-692AE6CB8997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AEDEBA-2360-41E8-9A2E-EC337FCD476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SBW, AVG Power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詳細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805400" y="1955880"/>
            <a:ext cx="5983920" cy="3600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Wide SP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測定スパンがワイドに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変更さ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使用するワイド・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パンから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99%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した後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(90%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算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平均電力測定　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eak Search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されると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時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軸波形から最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レベルをサーチし、その周波数から時間軸測定を行な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平均電力を求め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828800" y="1066680"/>
            <a:ext cx="56386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,AV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パワーに詳細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787BD-929B-4057-8559-B0A24270F33E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8E1CA1-30CE-4B15-B699-ADC97FAF963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パネルイメージと主要キーの説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880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491360" y="5576760"/>
            <a:ext cx="224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開始します。（連続測定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ont.Meas.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にチェックを入れる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4827240" y="5881680"/>
            <a:ext cx="80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測定を終了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A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オープンのまま待機状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2880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852440" y="4952880"/>
            <a:ext cx="1405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接続します。接続が完了するまで他のキーは禁止で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82880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38040" y="5257800"/>
            <a:ext cx="322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押された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の接続を解除します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PA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ローカルモードになります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250120" y="2209680"/>
            <a:ext cx="48564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入力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測定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自動設定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403280" y="48610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3280" y="518148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5486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03280" y="579132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2296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966000" y="91440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706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985080" y="4098960"/>
            <a:ext cx="37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0066"/>
                </a:solidFill>
                <a:latin typeface="Times New Roman"/>
                <a:ea typeface="ＭＳ Ｐゴシック"/>
              </a:rPr>
              <a:t>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7A6B-223F-4216-BC16-844F171D1D39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71B83-FF39-470F-8BDF-9B6841ADFB7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方法と測定詳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54400" y="365760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56200" y="556272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45476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5440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3680" y="502920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225440" y="508968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25440" y="3701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225440" y="56386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225440" y="4419720"/>
            <a:ext cx="15264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225440" y="47242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6120" y="5029200"/>
            <a:ext cx="362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センタ周波数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(cf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指定のときは波形からピークサーチしマーカから周波数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08120" y="3613320"/>
            <a:ext cx="41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F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設定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th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倍程度と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値の中か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最適値を出す。その他条件を設定し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ap 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表示した後、測定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した波形から指定された条件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Width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（リニア演算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97040" y="5562720"/>
            <a:ext cx="593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後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に変換し指定区間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(Div)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平均パワーを求め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（この例で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算出する時間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間の平均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340440" y="4648320"/>
            <a:ext cx="355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B 1MHz, CT 5ms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測定する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波形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0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％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83400" y="4343400"/>
            <a:ext cx="39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モードの波形から指定された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99%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で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540440" y="838080"/>
            <a:ext cx="6577560" cy="23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起動と測定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アプリソフトの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スタートより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 PowerMeasDG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実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. IP Addres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変更し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デフォルト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92.168.0.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. Conne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スペアナと接続されます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Using CH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rese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選択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d. CH Power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の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確認または設定します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CB,CT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自動設定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e. Trigger Mod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選択します。アベレージン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N/OFF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測定中可能で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その他必要な条件を設定し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Measur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ボタンを押すと測定が開始され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.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終了はローカルを押し、ウインドウを閉じま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86000" y="32608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各測定項目の詳細：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600000" y="6080040"/>
            <a:ext cx="387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の場合、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測定データから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。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SP,CBW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入力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47560" y="608004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615636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60BF-AF87-4973-860B-8525FB4257DE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1A22C3-A49B-42CE-83AC-9493DF6B3C4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フローと注意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6688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7480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66688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172200" y="152388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72200" y="274320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20040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20040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0040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3052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20040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70572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0572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0040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20040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114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580120" y="4648320"/>
            <a:ext cx="430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1) Trigger: Free Ru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実際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I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使う。掃引終了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B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を確認しながら処理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96480" y="5045040"/>
            <a:ext cx="349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表示のユニット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GHz, M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kHz,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がベターだが固定単位としてい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27920" y="5425920"/>
            <a:ext cx="170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)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連続測定を可能とする。（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op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キーで解除）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4280" y="5791320"/>
            <a:ext cx="27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注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) Width , Span 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は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Max 40MHz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とする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820680" y="990720"/>
            <a:ext cx="161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初期化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: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   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981440" y="1600200"/>
            <a:ext cx="583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oop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66688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66688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72200" y="2133720"/>
            <a:ext cx="99072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0572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69560" y="1630440"/>
            <a:ext cx="100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Wide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70640" y="3352680"/>
            <a:ext cx="113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arrow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データ取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201440" y="2133720"/>
            <a:ext cx="1330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F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から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-T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グラフ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17220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42528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70572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23888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96800" y="3352680"/>
            <a:ext cx="78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O Loo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08804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5944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20240" y="222876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20240" y="277344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0240" y="396252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225560" y="15238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225560" y="274320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257800" y="2514600"/>
            <a:ext cx="76212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63868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563868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168160" y="2209680"/>
            <a:ext cx="3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演算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AB97-EB36-4C0C-BD95-DF888C674FC3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BB683-D361-4A44-920F-E685C18CB2C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基本演算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4267080" y="942840"/>
            <a:ext cx="4527720" cy="2943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191120" y="4191120"/>
            <a:ext cx="4800600" cy="233820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279800" y="1066680"/>
            <a:ext cx="2353680" cy="180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チャンネル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なお、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下記とす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BW=RBW*1.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85200" y="4343400"/>
            <a:ext cx="235368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アベレージパワーの基本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詳細は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U3800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シリーズ本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取扱説明書を参照のこと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762120" y="914400"/>
            <a:ext cx="82296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62120" y="4114800"/>
            <a:ext cx="82296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24DF-7B5A-49ED-AB46-B77FD805349A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14EE1-331C-4012-9667-DA400D628AB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206720" y="838080"/>
            <a:ext cx="521460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　想定信号：　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67880" y="1981080"/>
            <a:ext cx="603576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１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045520" y="5486400"/>
            <a:ext cx="561528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082240" y="5978520"/>
            <a:ext cx="4908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93240" y="2666880"/>
            <a:ext cx="89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90520" y="3686040"/>
            <a:ext cx="7142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961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9E0B3-0EAF-4518-9D55-B0D0409AC1E7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2753F5-80C5-4C86-A9D2-59C47C7C63A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596240" y="1981080"/>
            <a:ext cx="5724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測定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：　</a:t>
            </a:r>
            <a:r>
              <a:rPr b="0" lang="en-US" sz="2000" spc="-1" strike="noStrike">
                <a:solidFill>
                  <a:srgbClr val="cc0066"/>
                </a:solidFill>
                <a:latin typeface="Tahoma"/>
                <a:ea typeface="ＭＳ Ｐゴシック"/>
              </a:rPr>
              <a:t>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53160" y="838080"/>
            <a:ext cx="390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869200" y="5369040"/>
            <a:ext cx="46443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49120" y="5791320"/>
            <a:ext cx="468432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898000" y="6207120"/>
            <a:ext cx="2577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34880" y="3930480"/>
            <a:ext cx="714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9840" y="2438280"/>
            <a:ext cx="930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39920" y="4827600"/>
            <a:ext cx="142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測定項目とその演算モジュール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: 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A6E6-C501-49C6-8E5F-DEFE7811E0D5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F9FC5C-9133-4D31-8307-1C6ED99223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規格により測定条件の変更が必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130920" y="932040"/>
            <a:ext cx="331236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想定信号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1b_cck_5.5Mbps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す。その他は下記を参照して下さい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47920" y="1523880"/>
          <a:ext cx="6553080" cy="4776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1523880"/>
                    <a:ext cx="6553080" cy="47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857BA-01A5-4ED1-B8E9-41988968F487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51EFDC-C04F-4A03-82EC-3EC22D63EEB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</a:t>
            </a:r>
            <a:r>
              <a:rPr b="1" lang="ja-JP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アベレージング測定機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580040" y="1676520"/>
            <a:ext cx="6575760" cy="472824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①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Channel Power (Total Power),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　　②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n (Sweep)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入力欄に数値を入れます。基本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指定回数だけ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ま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Sweep Mode: 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3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にチェックを入れますと、一回の時間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測定から、時間軸上で場所を変え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FFT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し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しま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(FFT AVG Mode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では、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2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③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SBW, </a:t>
            </a: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④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入力欄に数値を入れ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⑤</a:t>
            </a:r>
            <a:r>
              <a:rPr b="0" lang="ja-JP" sz="20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平均電力測定</a:t>
            </a:r>
            <a:r>
              <a:rPr b="0" lang="ja-JP" sz="2400" spc="-1" strike="noStrike">
                <a:solidFill>
                  <a:srgbClr val="0000ff"/>
                </a:solidFill>
                <a:latin typeface="Times New Roman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□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-m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をチェックすると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 ON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なり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回数は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上記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BW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と同じ数値を使います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G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は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Sweep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方式です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16160" y="941400"/>
            <a:ext cx="698976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各測定に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Averaging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（平均化）機能がありま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0E0CA-D677-4051-932E-C022188EDD83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F0BA5E-BF3C-4DFD-8DA0-ADBDA64B54B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07:41Z</dcterms:modified>
  <cp:revision>928</cp:revision>
  <dc:subject/>
  <dc:title>PowerPoint Presentation</dc:title>
</cp:coreProperties>
</file>