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08D4-5542-44E4-9979-C1477259A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0357-FA49-4FDB-B322-7671852B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79D1-007E-40CE-A7CC-8F2994EA8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64E0-BACA-4B05-BD11-149EA068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0D1B-9029-44A1-BC96-46466874F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2362-D90B-42A4-B5FD-F2311853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1038-C965-4DB7-A89A-32E90090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7643-1ED9-4290-BA70-2517A469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EA87-1C9D-4B38-953C-56580B0A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BEA0-C4B4-4E48-8551-18B48291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E383-69C7-4013-9871-A29863F1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30B6-B177-4CFE-92B3-924446E9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8346-8016-4B6E-87A9-A9A9B526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695D-142E-4C7A-B096-7097AF80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0B77-45CC-4C0E-A545-F1AFB185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90D5-FFAC-4998-824F-33AA88CC5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2B8F-FF8E-4796-AB7B-0D59E4035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08C1-03FF-4DAE-903E-5C1A824E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E7A0-E112-48C6-9D8B-2E98D1BC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FDCC-77D2-463B-8F3A-0248F6B7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A660-F5F7-4553-A368-966E066B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E712-616A-42B7-BF4D-C76013D4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525F-13E8-491A-8E25-3FFCF5E2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D8F1-F353-4B53-9437-7D0F6964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915048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4000-425F-47CD-B1B7-3A5803B49FB6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0856-9BCF-4315-B399-0EB793582F0A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8760" indent="-15876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1" marL="349200" indent="-16488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2" marL="1071720" indent="-17784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3" marL="1244520" indent="-17136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4" marL="1765440" indent="-209520">
              <a:spcBef>
                <a:spcPts val="249"/>
              </a:spcBef>
              <a:buClr>
                <a:srgbClr val="80808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5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6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B4FC-613E-44D6-943D-4A0428A76B9A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8167-F409-4159-9A62-670A443979D0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1371600" y="1523520"/>
            <a:ext cx="685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ＭＳ Ｐゴシック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1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14400" y="9036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High Speed Power 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825480"/>
            <a:ext cx="80773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Outlin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is a sample software where RF signal parameters are measured with external PC by using U3800 Time Domain Analysis (Digitize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 a result, 7 or 8 times the speed measurement can be expected compared with standard SPA.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SPA: Spectrum Analyz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2590920"/>
            <a:ext cx="81532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Measurement it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easurement items refer the high performance small electric power data communications system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TEL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Telecom Engineering Cent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Note: No Spurious, N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M measur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70120" y="4051440"/>
            <a:ext cx="796896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Measurement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 carrier frequency and band width of the power measurement. Other measurements are measured with SPAN(CB) 1MH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The measurement signal makes 11b_cck_5.5Mbps an examp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When the pulse width is 1ms or less in other standards, we might need to change the softwa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The measuring range can correspond from special small systems to WLA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The sample software is only an EXE file usual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There is an offered service of source file (VB6) by the user registr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6080" y="757080"/>
            <a:ext cx="104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.05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8B48-976D-46A9-8A40-84FD0DF3C8E5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815A8D-656F-43A7-8131-861229A81C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762120" y="763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9. Detail of SBW, AVG-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90720" y="1960560"/>
            <a:ext cx="7772400" cy="37530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SB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When Wide SP is checked, the measuring span of SBW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dely changed. After OBW99% is calculated from wide s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d when Channel Power is measure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(90%) is calculated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If Peak S is checked, it becomes Peak Search 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Channel Power is measured, it searches for the utm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vel from Freq axial waveform. And, the time base data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d at that frequency and mean power calcul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92120" y="1066680"/>
            <a:ext cx="683748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ail Functions are added to SWB, AVG-Pow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A014-502B-44D3-9787-5A0DFDF5BFF4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8CBD7C-078B-4AD8-8AB4-2EA6B6AEA2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6172200" cy="4029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2120" y="903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Panel image and Main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556272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588816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66560" y="5448240"/>
            <a:ext cx="65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the measurement begins. The continuous measurement is also possible by check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69080" y="5753160"/>
            <a:ext cx="55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the measurement is ended. LAN is a waiting state like the opening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495288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66920" y="4971960"/>
            <a:ext cx="664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it connects to SPA. Other keys are the prohibitions until the connection is comple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525780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70160" y="5278320"/>
            <a:ext cx="549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the connection with SPA is released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 becom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cal m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48720" y="2286000"/>
            <a:ext cx="3045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848720" y="2590920"/>
            <a:ext cx="30456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148600" y="2217600"/>
            <a:ext cx="603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u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1440" y="48610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1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1440" y="51814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1440" y="54864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3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1440" y="57913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4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44320" y="8380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1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06440" y="82224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8000" y="40384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3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06440" y="40384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4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48720" y="2895480"/>
            <a:ext cx="304560" cy="152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6FCE-62D1-4341-9D3D-BE35E6E548A2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B6B4C4-618D-46B3-A3E6-0F92967DAF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763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Measurement method and De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5640" y="35812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21480" y="5486400"/>
            <a:ext cx="9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BW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20040" y="43480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680" y="464832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64680" y="495288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3160" y="502920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3160" y="365760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73160" y="556272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73160" y="441972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73160" y="4724280"/>
            <a:ext cx="15228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4950000"/>
            <a:ext cx="6172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ter SBW is calculated, the center frequency is calculated. When PS is set, it searches for the peak from the waveform and the frequency is calculat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3581280"/>
            <a:ext cx="647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GT and FFT mode, set C-Freq. CB uses the value about twice CHP-BW. After other conditions are set and Cap B and Cap T are displayed, and measuring. CH Power is calculated on specified CHP-BW from the measured wavefor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5486400"/>
            <a:ext cx="632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ter frequency is calculated, it converts to P-T graph, and the Average Power is calculated.  (In this example, CT is 5ms and AVG Power is 1ms.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44680" y="4495680"/>
            <a:ext cx="588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is calculated from the waveform of FFT at CB 1MHz and CT 5m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46480" y="4191120"/>
            <a:ext cx="54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is calculated from the waveform of FFT mode of CH Power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9800" y="762120"/>
            <a:ext cx="809316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tartup and Measure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. Execution of the Software. (Select the U3800 PowerMeasDGT from the STAR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. IP Address is confirmed or it changes. (Default:192.168.0.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. When the Connect button is pushed, it is connected with SPA. (Set Using CH, Pres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. BW of CH Power is confirmed or is set. (CB and CT are the automatic setting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 Select the Trigger Mode. Averaging On/Off is possible while measuring i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.  Additionally, when a necessary condition is set, and the Measure button is pushe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easurement is begu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. The end of program pushes the Local, and shuts the Window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09360" y="3200400"/>
            <a:ext cx="419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Measurement details of each item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6035760"/>
            <a:ext cx="640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P is calculated from the SBW measurement data if ACP measurement ON. (C-SP and C-BW are input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18960" y="6019920"/>
            <a:ext cx="109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P: Low/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Span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60958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2FD1-7467-41DC-BD06-46654C8FCF43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69AAEE-35D1-4C7C-A10D-CF674C1BD2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Measurement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0" y="223056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93920" y="2784600"/>
            <a:ext cx="9828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3962520"/>
            <a:ext cx="9572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1523880"/>
            <a:ext cx="990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91320" y="2743200"/>
            <a:ext cx="990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19520" y="2535120"/>
            <a:ext cx="0" cy="28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19520" y="306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367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49640" y="9907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39625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1295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2448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24480" y="1143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44197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1143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00840" y="4519440"/>
            <a:ext cx="69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1: Trigger: Free Run actually uses SI. Sweep End is detected while seeing STB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99400" y="491652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2: GHz, MHz, kHz, and Hz use a fixed unit for the unit of the display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10560" y="5297400"/>
            <a:ext cx="41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3: The continuous measurement is enabled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11640" y="5662440"/>
            <a:ext cx="39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4: Width  and Span are up to Max 40MHz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985680"/>
            <a:ext cx="1736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up:  IP,CF,SP,REF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GT,CB,C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16002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o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160020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P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335268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133720"/>
            <a:ext cx="990360" cy="30456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 -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244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00040" y="1625760"/>
            <a:ext cx="144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 Wide BW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99680" y="334800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 Narrow BW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06800" y="2128680"/>
            <a:ext cx="138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FT to P-T 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3276720"/>
            <a:ext cx="1066680" cy="4572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44400" y="33210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244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3352680"/>
            <a:ext cx="8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Loo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07160" y="3230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78560" y="36576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98960" y="22352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98960" y="277956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98960" y="39686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76920" y="2514600"/>
            <a:ext cx="7617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: On/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57800" y="1143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257800" y="2971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41960" y="22096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04280" y="15238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04280" y="274320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0506-BAAA-4F44-A236-104DEF2E7837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59799-C57C-4968-990B-A050206924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62120" y="763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 Power Measurement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74680" y="1279440"/>
            <a:ext cx="32090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Formula of Channe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Details: See U3800 ser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’s Gui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: Advantest us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BW=RBW*1.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67480" y="4357800"/>
            <a:ext cx="32090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Formula of Average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Details: See U3800 ser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’s Gui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914400"/>
            <a:ext cx="80010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8080" y="4114800"/>
            <a:ext cx="8001000" cy="2438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786200" y="1295280"/>
            <a:ext cx="3519720" cy="2411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751280" y="4419720"/>
            <a:ext cx="3554640" cy="1755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8DBB-C4B4-4856-A80A-CB98C717F688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D57025-BC39-4260-B8B2-9AF0A00990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Measurement item and Module: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03200" y="843120"/>
            <a:ext cx="516096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 Signal: 11b_cck_5.5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nel Power (Total Power) BW 22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40920" y="1986120"/>
            <a:ext cx="717372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Measurement</a:t>
            </a:r>
            <a:r>
              <a:rPr b="0" lang="ja-JP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１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: DGT CB:40MHz, CT:0.3ms, Data(25u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42720" y="5491080"/>
            <a:ext cx="556812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CHPpower CHPstart, CHPstop, MeasCHPCB, CH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46680" y="5983200"/>
            <a:ext cx="484560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OBWfreq 99, MeasCHPCB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5867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486400" y="25146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800600" y="34290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4880" y="2671920"/>
            <a:ext cx="88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&gt;200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2040" y="3691080"/>
            <a:ext cx="71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25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00800" y="4800600"/>
            <a:ext cx="990720" cy="152280"/>
          </a:xfrm>
          <a:prstGeom prst="leftRightArrow">
            <a:avLst>
              <a:gd name="adj1" fmla="val 50000"/>
              <a:gd name="adj2" fmla="val 129516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0" y="518148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77120" y="5029200"/>
            <a:ext cx="838080" cy="152280"/>
          </a:xfrm>
          <a:prstGeom prst="leftRightArrow">
            <a:avLst>
              <a:gd name="adj1" fmla="val 50000"/>
              <a:gd name="adj2" fmla="val 109561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91880" y="4772160"/>
            <a:ext cx="1003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CH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OBWfr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ent 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8001-6895-4270-A5C9-64C35D469955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75B5D6-62AC-4A05-9E24-8199595D69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312200" y="1986120"/>
            <a:ext cx="661644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Measurement2: DGT CB:1MHz, CT:5ms, Data(1m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96000" y="843120"/>
            <a:ext cx="398448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G Power (1MHz RBW, 1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84760" y="5373720"/>
            <a:ext cx="457596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OBWfreq 90, SBWSpan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84400" y="5796000"/>
            <a:ext cx="4664160" cy="3373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ert the data FFT(Level-F) to P-T(Level-Ti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80800" y="6211800"/>
            <a:ext cx="252324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AVGpower AVG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562720" y="25146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876920" y="36576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46760" y="3935520"/>
            <a:ext cx="71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51920" y="2443320"/>
            <a:ext cx="966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&gt;5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FT(1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8120" y="502920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4876920"/>
            <a:ext cx="1828800" cy="152280"/>
          </a:xfrm>
          <a:prstGeom prst="leftRightArrow">
            <a:avLst>
              <a:gd name="adj1" fmla="val 50000"/>
              <a:gd name="adj2" fmla="val 239077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40280" y="4827600"/>
            <a:ext cx="146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freq (3.SB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nt Freq (4.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19920" y="4876920"/>
            <a:ext cx="457200" cy="152280"/>
          </a:xfrm>
          <a:prstGeom prst="leftRightArrow">
            <a:avLst>
              <a:gd name="adj1" fmla="val 50000"/>
              <a:gd name="adj2" fmla="val 59769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30320" y="483228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AVG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6. Measurement item and Module: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888B-E902-41D7-ACA1-940A25991899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93CF6A-6604-457C-AD6A-2B78536A56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2120" y="7632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7. Change the measuring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17760" y="936720"/>
            <a:ext cx="6192720" cy="441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 Signa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b_cck_5.5Mbps, Other: See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452600" y="1560600"/>
          <a:ext cx="6396120" cy="484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1560600"/>
                    <a:ext cx="6396120" cy="48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16FF-D8E8-4D48-8B07-B7226787F8E9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2DEC9D-4F35-44FF-B704-172125C5E5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62120" y="76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8. Averaging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546200"/>
            <a:ext cx="7924680" cy="46674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Channel Power (Total Power),    2. 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AVG-n (Sweep) is checked, it becomes AVG 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VG number puts the numerical value in the input colum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sweep method. (sweep: 2 to 30 ti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When the check is put in FFT AVG Mode, AVG is done from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 base measurement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FFT is done from one time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ment and AVG is don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FFT: 2 to 10 ti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SBW,   4. 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AVG-m is checked, it becomes AVG 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VG number puts the numerical value in the input colum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sweep method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AVG-m is checked, it becomes AVG ON. It is sweep method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VG number uses the same numerical value as SB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865080"/>
            <a:ext cx="617220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raging is added to each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692B-9A5B-403A-9D8D-BA00DEEEE0BC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F35527-A396-4812-AB8F-B5971C7F43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8:42:24Z</dcterms:created>
  <dc:creator>hirakoso</dc:creator>
  <dc:description/>
  <dc:language>en-US</dc:language>
  <cp:lastModifiedBy>ADVANTEST</cp:lastModifiedBy>
  <dcterms:modified xsi:type="dcterms:W3CDTF">2012-01-07T01:10:12Z</dcterms:modified>
  <cp:revision>1016</cp:revision>
  <dc:subject/>
  <dc:title>PowerPoint Presentation</dc:title>
</cp:coreProperties>
</file>